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E8A1-93B7-4483-A198-97DF8CA8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52BF-993F-4562-88E0-C43B40A6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ECB4-8B4E-4A17-AFC3-12AA0377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377B-ECA3-44A7-8D0E-27D37C20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4E79-7407-4170-A837-6C2E7D5A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0C7C-779A-4BEE-B314-2847E12A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0CBB-E6AC-4D71-B834-F02DFDFA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0FA3-87C0-4B78-A101-8909590A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E7B2-E80C-403F-8E60-94FAA01F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8222-5018-44CA-A119-402D01D8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C2B1-9204-4A0C-9852-487FC9C7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30F-43E3-4938-9499-D53F40CB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8515-C684-4884-94A7-57904D0D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4A8D-02C7-462D-B8E4-96DADE2C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3427-712B-46A3-B16C-C2823533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2B23-C9F7-4070-B3F0-A058376A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2BC0-B1B0-4EC5-AAF0-73C3F578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9F5C-04A9-4C0C-BBE8-99BA0089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51A6-68C3-4141-AD31-7C501CA5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9BAA-7E5F-463E-A1E3-445717CC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26B6-8238-4492-9108-7CA89FA2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97F8-6B9A-4E14-B1E2-3C75DAE0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38E2-0A76-43FE-9DAD-D4610016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5D1D-00C0-4DC2-A76A-B0A1B04F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1ACE-F678-45F2-B333-FD891D498A3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0B06-BED3-4EA0-8B2A-2F5B35BFDB2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ostyor.ru/history/flag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ostyor.ru/history/gerb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8560" y="764640"/>
            <a:ext cx="701676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bbd71"/>
                </a:solidFill>
                <a:latin typeface="Arial"/>
              </a:rPr>
              <a:t>КОНСТИТУЦИЯ</a:t>
            </a:r>
            <a:br>
              <a:rPr sz="6600"/>
            </a:br>
            <a:r>
              <a:rPr b="1" lang="ru-RU" sz="66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6600"/>
            </a:br>
            <a:r>
              <a:rPr b="1" lang="ru-RU" sz="6600" spc="-1" strike="noStrike">
                <a:solidFill>
                  <a:srgbClr val="dbbd71"/>
                </a:solidFill>
                <a:latin typeface="Arial"/>
              </a:rPr>
              <a:t>РОССИЙСКОЙ</a:t>
            </a: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dbbd71"/>
                </a:solidFill>
                <a:latin typeface="Arial"/>
              </a:rPr>
              <a:t>ФЕДЕРАЦИИ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Что такое “право” и что такое “обязанность”? В чем их различие?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о” - это то, что государство гарантирует дать своим гражданам, а вот “обязанность”, наоборот, - это то, что граждане гарантируют дать своему государству. В этом и состоит их различ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400" y="260280"/>
            <a:ext cx="78343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татья 17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ые права и свободы человека принадлежат каждому от ро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татья 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имеет право на жизн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2340000" y="3789360"/>
            <a:ext cx="2303280" cy="1601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92720" y="3573360"/>
            <a:ext cx="1584360" cy="237672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468360" y="260280"/>
            <a:ext cx="835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тья 2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Каждый имеет право на свободу и личную неприкосновен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тья 25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Жилище неприкосновенно. Никто не вправе проникать в жилище против воли проживающих в нём ли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0" t="3357" r="0" b="0"/>
          <a:stretch/>
        </p:blipFill>
        <p:spPr>
          <a:xfrm>
            <a:off x="3924360" y="3357720"/>
            <a:ext cx="3816360" cy="261144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37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имеет право на труд, право выбирать род деятельности и профессию. Каждый имеет право на отд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4628880" cy="2590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2"/>
          <a:stretch/>
        </p:blipFill>
        <p:spPr>
          <a:xfrm>
            <a:off x="5219640" y="3417840"/>
            <a:ext cx="3673440" cy="270180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0503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38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мья находится под защитой государства. Забота о детях, их воспитание – право и обязанность родителей. Дети, достигшие 18 лет, должны заботиться о нетрудоспособных родител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1403280" y="4221000"/>
            <a:ext cx="2376720" cy="1640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5364000" y="4149720"/>
            <a:ext cx="2087640" cy="195588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76899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41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имеет право на охрану здоровья и медицинскую помощ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332000" y="2583000"/>
            <a:ext cx="2592360" cy="1749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5076720" y="3645000"/>
            <a:ext cx="2665440" cy="194472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77612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43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имеет право на образ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2057400" cy="2800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tretch/>
        </p:blipFill>
        <p:spPr>
          <a:xfrm>
            <a:off x="4932360" y="1916280"/>
            <a:ext cx="2754360" cy="1620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3"/>
          <a:stretch/>
        </p:blipFill>
        <p:spPr>
          <a:xfrm>
            <a:off x="5003640" y="4508640"/>
            <a:ext cx="2737080" cy="152532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76183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58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обязан сохранять природу и окружающую среду, бережно относиться к природным богатств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971640" y="3284640"/>
            <a:ext cx="2990880" cy="2170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3024360" cy="208584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74026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59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щита Отечества является долгом и обязанностью гражданина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1866960" cy="2951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2"/>
          <a:stretch/>
        </p:blipFill>
        <p:spPr>
          <a:xfrm>
            <a:off x="3059280" y="3284640"/>
            <a:ext cx="3024000" cy="1938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"/>
          <p:cNvPicPr/>
          <p:nvPr/>
        </p:nvPicPr>
        <p:blipFill>
          <a:blip r:embed="rId3"/>
          <a:stretch/>
        </p:blipFill>
        <p:spPr>
          <a:xfrm>
            <a:off x="6732720" y="4149720"/>
            <a:ext cx="2217600" cy="223200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78343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70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сударственный флаг, герб и гимн Российской Федерации устанавливаются федеральным законом. Столицей Российской Федерации является город Моск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3286080" cy="2190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3635280" y="3429000"/>
            <a:ext cx="2816280" cy="3311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3"/>
          <a:stretch/>
        </p:blipFill>
        <p:spPr>
          <a:xfrm>
            <a:off x="6561000" y="3500280"/>
            <a:ext cx="2583000" cy="335772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КОНСТИТУЦИЯ   РОССИЙСК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ФЕДЕРАЦИИ  –  ОСНОВНОЙ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ЗАКОН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ГОСУДАР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580000" y="3141720"/>
            <a:ext cx="1895400" cy="282888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7905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ОСКВА  –  СТОЛИЦА 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1887480" cy="2519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5940360" y="4780080"/>
            <a:ext cx="2592360" cy="1922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3"/>
          <a:stretch/>
        </p:blipFill>
        <p:spPr>
          <a:xfrm>
            <a:off x="6516720" y="1628640"/>
            <a:ext cx="1825560" cy="244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4"/>
          <a:stretch/>
        </p:blipFill>
        <p:spPr>
          <a:xfrm>
            <a:off x="900000" y="4797360"/>
            <a:ext cx="2448000" cy="2001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5"/>
          <a:stretch/>
        </p:blipFill>
        <p:spPr>
          <a:xfrm>
            <a:off x="3635280" y="1484280"/>
            <a:ext cx="2054160" cy="1709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"/>
          <p:cNvPicPr/>
          <p:nvPr/>
        </p:nvPicPr>
        <p:blipFill>
          <a:blip r:embed="rId6"/>
          <a:stretch/>
        </p:blipFill>
        <p:spPr>
          <a:xfrm>
            <a:off x="3564000" y="3573360"/>
            <a:ext cx="2233440" cy="167184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042560" y="259920"/>
            <a:ext cx="71866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80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идент Российской Федерации является главой государ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1"/>
          <a:stretch/>
        </p:blipFill>
        <p:spPr>
          <a:xfrm>
            <a:off x="1857240" y="2286000"/>
            <a:ext cx="5429520" cy="413244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900000" y="259920"/>
            <a:ext cx="7848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111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едатель Правительства Российской Федерации назначается Президентом Российской Федерации с согласия Государственной Ду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2357280" y="2857680"/>
            <a:ext cx="3934080" cy="400032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78343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118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осудие в Российской Федерации осуществляется только су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611280" y="2781360"/>
            <a:ext cx="5832360" cy="2103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6804000" y="1484280"/>
            <a:ext cx="2157480" cy="515304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78343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титуция Российской Федерации вступает в силу со дня официального его опубликования по результатам народного голос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нь всенародного голосования 12 декабря 1993 года считается днём принятия Конституции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280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азное время в нашей стране были приняты три Конституци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1924 году                            в 1936 год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1977 год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1600200" cy="2228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6227640" y="1916280"/>
            <a:ext cx="1704960" cy="2190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3"/>
          <a:stretch/>
        </p:blipFill>
        <p:spPr>
          <a:xfrm>
            <a:off x="3708360" y="4705200"/>
            <a:ext cx="1381320" cy="215280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3"/>
          <p:cNvSpPr txBox="1"/>
          <p:nvPr/>
        </p:nvSpPr>
        <p:spPr>
          <a:xfrm>
            <a:off x="2700360" y="404640"/>
            <a:ext cx="4321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Роль Конституции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363600" y="1341360"/>
            <a:ext cx="8353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1.Обеспечивает ставильность в обществе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29" name="WordArt 5"/>
          <p:cNvSpPr txBox="1"/>
          <p:nvPr/>
        </p:nvSpPr>
        <p:spPr>
          <a:xfrm>
            <a:off x="363600" y="2222640"/>
            <a:ext cx="83534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2.Обеспечивает легитимность и преемственность власти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0" name="WordArt 6"/>
          <p:cNvSpPr txBox="1"/>
          <p:nvPr/>
        </p:nvSpPr>
        <p:spPr>
          <a:xfrm>
            <a:off x="363600" y="3105000"/>
            <a:ext cx="8353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3.Закрепляет политическую, социальную и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экономическую основу общества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1" name="WordArt 7"/>
          <p:cNvSpPr txBox="1"/>
          <p:nvPr/>
        </p:nvSpPr>
        <p:spPr>
          <a:xfrm>
            <a:off x="365040" y="4533840"/>
            <a:ext cx="8353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4.Определяет политический и правовой режимы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2" name="WordArt 8"/>
          <p:cNvSpPr txBox="1"/>
          <p:nvPr/>
        </p:nvSpPr>
        <p:spPr>
          <a:xfrm>
            <a:off x="365040" y="5416560"/>
            <a:ext cx="83534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5.закрепляет национальное и территориально-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государственное устройство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p:transition advTm="1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Государственный флаг Российской Фед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7" name="Picture 3" descr="Флаг Российской Федерац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2514600"/>
            <a:ext cx="3886200" cy="2646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та принятия: 08.12.200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сударственный флаг Российской Федерации – это прямоугольное полотнище трех равновеликих горизонтальных полос: верхней – белого цвета, средней – синего, а нижней – красного цвет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Герб Российской Федерации (герб России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560" y="4572000"/>
            <a:ext cx="51051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осударственный герб России представляет собой четырехугольный, с закругленными нижними углами, заостренный в оконечности красный геральдический щит с золотым двуглавым орлом, поднявшим вверх распущенные крыль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029200" y="1599840"/>
            <a:ext cx="3581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рел увенчан двумя малыми коронами и – над ними – одной большой короной, соединенными лентой. В правой лапе орла – скипетр, в левой – держава. На груди орла в красном щите – серебряный всадник в синем плаще на серебряном коне, поражающий серебряным копьем черного, опрокинутого навзничь и попранного конем драко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ата принятия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20.12.200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Герб Российской Федерац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600200"/>
            <a:ext cx="2205000" cy="266688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Гимн Российской Федерации (гимн России)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(слова С.Михалкова)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-й куплет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оссия — священная наша держава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оссия — любимая наша страна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огучая воля, великая слава —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вое достоянье на все времена!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пев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авься, Отечество наше свободное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ратских народов союз вековой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ками данная мудрость народная!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авься, страна! Мы гордимся тобой!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-й куплет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т южных морей до полярного края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аскинулись наши леса и поля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дна ты на свете! Одна ты такая —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Хранимая Богом родная земля!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пев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авься, Отечество наше свободное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ратских народов союз вековой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ками данная мудрость народная!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авься, страна! Мы гордимся тобой!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-й куплет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Широкий простор для мечты и для жизни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рядущие нам открывают года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м силу дает наша верность Отчизне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ак было, так есть и так будет всегда!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пев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авься, Отечество наше свободное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ратских народов союз вековой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ками данная мудрость народная!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авься, страна! Мы гордимся тобой!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о декабря 2000 г. государственным гимном Российской Федерации являлась мелодия, созданная на основе «Патриотической песни» М.И.Глинки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та принятия: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07.03.2001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О Конституции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ереводе с латинского языка слово “конституция” обозначает “устройство”, то есть то, как устраивается, строится государство. В нашей стране много законов, но главным законом нашего государства, основные правила по которым мы живем, записаны в Конституции. В знак уважения к основному закону страны слово “Конституция” пишется с заглавной бук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bd71"/>
                </a:solidFill>
                <a:latin typeface="Arial"/>
              </a:rPr>
              <a:t>Россия есть единое многонациональное демократическое государство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В толковом словаре написано, что “демократия” в переводе с греческого языка переводится как “народ” и “власть” или “народовластие”. Значит, в нашей стране народу принадлежит власть, и он может участвовать в управлении государств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езидент России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33160" y="42670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ово “президент” в переводе с латинского языка означает “сидящий впереди, во главе”. Действительно, Президент России – это глава нашего государства, который избирается в соответствии с Конституцией Российской Федерации, в которой оговариваются его права и обязанност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зидентом Российской Федерации может быть избран гражданин Российской Федерации не моложе 35 лет, постоянно проживающий в Российской Федерации не менее 10 лет”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настоящее время Президентом России является Дмитрий Анатольевич  Медведев, который совместно с Правительством является исполнительной властью государст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отличие от них, Государственная Дума является законодательной властью. Законодательная, то есть, принимающая законы. Она избирается, как и Президент, всенародно на 4 года. В ее состав входят 450 депутатов. В статьях 96 и 97 Конституции указывается на то, что каждый гражданин с 18 лет может выбирать представителей в Государственную Думу и сам может быть избранным в ее состав, если ему 21 год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4322880" cy="293688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Судебная власть.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ласть осуществляет правосудие, следит за исполнением законов исполнительной и законодательною властями, разрешает конфликты, восстанавливает права, наказывает правонарушителей. Судебная власть осуществляется только судом, как отмечено в статье 118 Конституции Ро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1:39:35Z</dcterms:created>
  <dc:creator>Шурик</dc:creator>
  <dc:description/>
  <dc:language>en-US</dc:language>
  <cp:lastModifiedBy>Admin</cp:lastModifiedBy>
  <dcterms:modified xsi:type="dcterms:W3CDTF">2013-12-04T04:28:14Z</dcterms:modified>
  <cp:revision>15</cp:revision>
  <dc:subject/>
  <dc:title>КОНСТИТУЦИЯ  РОССИЙСКОЙ ФЕДЕРАЦИИ</dc:title>
</cp:coreProperties>
</file>